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wmf" ContentType="image/x-wmf"/>
  <Override PartName="/ppt/media/image25.png" ContentType="image/png"/>
  <Override PartName="/ppt/media/image11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1.wmf" ContentType="image/x-wmf"/>
  <Override PartName="/ppt/media/image28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9.wmf" ContentType="image/x-wmf"/>
  <Override PartName="/ppt/media/image39.png" ContentType="image/png"/>
  <Override PartName="/ppt/media/image6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C197-44F2-44F8-8F1A-E4D07CE4459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DE7E-6B9B-49B3-B8DD-D172646BBB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1F91-7EBC-4F3E-9E47-77CCD1AAE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F87-8EE9-4C1F-8758-65B63F25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16E1-02BA-42FD-BFAA-5F9F27D6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379730-C509-4D8A-9F63-8E80BEDB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05FD68-CDF2-4BAC-A067-587B2228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4DF32-EC46-452B-9A44-4DF364B8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96C4E-68BF-4354-8168-784AC635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D40FA1-B29E-49C5-A906-6F8D6A31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AA573-E221-4439-BAD6-62C12BC3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1E0DE-362C-458E-A170-3F50F97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C8097D-12F2-409A-95FD-9CFCB4DE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A5A08-F238-423E-AF58-BB31F0AA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720EB-E88E-464F-B32F-9F1574A6F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043B-03FD-47DF-9617-3DE3CA2E4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9500F-37E2-4E51-817C-C1ED1B89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DABBF4-0425-4278-B615-25D71810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70585-E82D-4193-BD80-2DA47741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BCC39F-8063-4222-89D3-B5043FC2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FF8750-7B04-4107-922A-FC469E589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BD06-61FA-4700-9660-B77FC59E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013283-F10D-4B4D-9DE1-BC299FCD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38389-F83C-4D27-85AC-3316BB97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2FBFE2-B361-4E31-BFE4-43282E87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BF435C-70E8-41C5-8079-519EB39A4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0F7A-8226-49D5-BF5F-A1D12B77D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C687E-A789-4C87-8794-6E59E961E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377A51-6EAB-4F2C-9BC3-711F5D2D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EA35F1-3054-44F2-8FB1-3506FF6E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D25875-FD77-473B-9A76-1F38FB76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13C45-08D3-4F11-A5AE-3A228A9B1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ECE8D-21F1-4568-88F3-3AA1FA02D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BB935-CFDB-40B5-BF3C-4040AB6C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C8481-AA1D-4A28-86DE-27562806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B3198-08EF-4E12-BE98-9B968BBB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F349BC-4D79-4D04-A05C-01CAE33B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1B52-FA20-48D4-BB1F-95A6A833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F3C3B-4FAD-4E1F-A1C2-549B6C3A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6C1CA-396B-4E5D-B0F9-2D34E12F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0DFBD-90F8-44F2-8293-101C1A6E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8B152D-AE06-47FA-AC0E-E17B111C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384E5-76D4-48E5-8AC3-9CA3C7DC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BDCE0-FCE7-47C6-8A5D-477896A1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05A04-EB96-4083-95FD-2C4CCCAA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1653D-6A89-4C35-BE37-41BCBA537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CF1AD-7653-4A84-90D8-2A0CC182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1120D8-3F41-4AC8-95CB-1392B4AF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A8AE-49B2-4677-8D76-ED0E362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3FDF2D-2F0C-4862-B326-8B914F60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47673-234D-4E65-8A39-AB1CA3831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B8E1B-F522-4FC0-9C0F-FBD2DF0B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34393-EC51-4C34-9500-BC8A1BDE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679DB-62A8-46BE-B07B-298B0019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B5515-4CD3-4A37-B912-26424AF9C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559991-5610-46CF-94C6-23BFC40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670B2-F8D0-4528-A58B-2E119A0A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B5C3C8-4F3D-4549-BED6-35E5DB4A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E20E1C-7EC6-44A6-91A6-38968DB8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FF935-ACE6-447D-9C29-13C2BEA8F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93F68E-9912-474D-A11A-A48A185A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AE370C-D5CB-4A56-9052-59820EF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E87F81-E2DB-45B1-9670-8C7C6BB8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44D82-D7EF-4A9A-98AC-C0695BB7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C96D4-7649-4571-8DB7-23C23A8EE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1E125-A74A-458C-BD98-154DEF900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42C3E-3470-4CD2-9C06-500794AB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C69CBB-A011-4F25-8379-44FC2933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C276F1-458E-4C23-9371-F079D9F17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A56527-62C5-443E-BBE8-F1BFE6A3F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7BD5-B9B9-4ED9-B9AB-15F12103A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26DCE-8981-4168-99FE-61D03939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0501E1-E8FB-455F-8A42-8B5F8B13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8E64F-8C6B-4696-B809-F4C8AC29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33B6D-C0DC-4CAE-8B19-CA39A7D2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0360F8-7C2B-4FEB-A78D-7B687A92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5DEC09-AEE1-4AD1-813C-6308121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797EAE-CD75-480E-8DD9-D895EED9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C0123-B5A3-4982-A538-4AE9B6011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E5769-2A38-40B7-BBAB-ECE17C04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E8C7E-489C-4425-B3A0-D4EC91CEE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B6B2-9470-4504-BF18-9AB64D39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6A8A8-B5FB-4435-9E95-9682B26A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A8B61-FB23-42EF-BCA7-C077C350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F4750-D757-4299-8655-136C41A2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025F9C-75C1-4116-88C1-953D104FB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BDB57B-20F7-4C80-90E0-76ABE673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EC8DC6-5A8D-4B8C-8340-11FBE73F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EAF575-A60E-413B-9C5E-93E83E04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985C4-E1EF-4908-A84B-CBD647A4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D5CF4D-B4CE-4FF2-A7EE-1E0606B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E3CD9D-792D-45CC-8868-33D39358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3F65-24B8-489F-82EC-EBD290E6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88A39F-4D3B-4DEF-B00A-93B4586F8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AEB693-502C-46CD-9957-11D329A1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2FAF12-C57B-4E35-A87D-64175F159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B6FD34-9028-4103-8776-9EF146D3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BCA9EE-595B-4820-A37D-B426A9A1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3E797-6C4B-4A09-A254-D35C51FAD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1D6E4-3618-4C9A-BC74-46BFCF09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975DFC-C729-40DB-B779-2E38A161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2A8F04-A609-4A10-BE9C-E7214611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6C2D25-14EA-413F-8E86-8BB346DA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5D6B-5277-4A94-8266-2D697705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482E7-4C11-4383-8841-2D5CD347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553DBF-DDFF-4423-83F8-91A19CA4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D5A80C-91AC-482C-AF29-485AD650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514E-1696-43A4-8C53-543312B4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04FE-554E-4E7D-A7E3-B81E6555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88FB-6A15-4144-92AA-5DA5990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2F39-7CF4-4758-9C7C-597ABAD8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FDA0-1EBA-4DD5-9D62-3ACAA1024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EBA80-8C8C-4D3C-8B48-3C1242DC2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03028-D75B-4730-A45C-68F83481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DF750-B88A-4AD5-956E-3630F130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A8BE-F140-4AA9-B0D8-50EEFDB6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167A4-FFA5-4193-9F80-F2E2210D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7D3A2-3012-45C4-9E88-ED79E2919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5119-EEC0-4ED7-9F7B-97B85AE3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40CF2-D222-479A-9F4F-2F2B7120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CD66C-6C5A-429D-902A-6DD0FACDA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58BB7-811A-481D-8207-B7BBCAFE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CD860-AD2F-4A67-82A7-D025904F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3FE1F-A4E2-4E5A-BB50-7ED1DB71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6B79F-5F06-4739-BBFE-853992AC8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457EA-D7B1-46AA-AA64-A1447355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CED8D-3A3B-4EF9-A80C-6B47738C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9A775-5A98-4256-8682-FD7C7A55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276C-FC6D-4A42-9636-CFCB37AA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1153-9417-4B55-8C57-ED6126A5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FDCCA-9980-499D-B52C-748637AC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7F0DC-A0AA-4E3A-970C-A01D6667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36C54-F2DD-49FC-AEAE-CF6459FD9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55418-74B5-44F1-B3CE-55CCFE98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CF2D-AD2E-497C-947F-8233B7A8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E57F8-5B4A-4BA8-984E-C40C27D1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783F5-AE33-4DE0-980A-B470BF6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F0410-F9CE-4961-8351-6675D1C1C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30AB-ABEA-4BB9-9988-F51F26205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A6B49-FC36-44EF-892F-19C41B90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9F5A-9D1D-4FBD-B6D1-25986EE44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7B914-704B-4A12-B580-09BE0E93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DABD1-C8F8-429C-BEF0-6F658C26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37FEA-8E7C-4AF1-83A6-32E42931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1515-DF3D-4123-AF34-A2C7BAA3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C6ECB-097F-49CB-A088-D18E4420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E902B-0058-489E-8B96-6567440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B2E94-CDE4-4EC0-89ED-1715A81D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8024-B16E-4A81-8889-076D3715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51580-41E0-415C-A78B-35F38BD0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93323-6CCB-4AB6-8515-F16BAD02C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37B-1B8F-4793-933C-FA823FCC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8ED2C-9E96-4E72-AE7E-487503DD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D8071-10B5-4774-94A0-5EFF8E76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BB358-4B4B-4EA6-9D6B-66982D29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E8631-93B9-4E25-9546-82164521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3251A-8EC3-425C-A21B-6CDC1106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FDF87-7FC9-41E1-AAAF-1F582EDA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8E45C-3FDD-45A5-8675-40725DB9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CAC2C-34F0-4889-858C-FCC8BA71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2A187-4D09-4AC6-BAD5-105F2358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51A64-227A-44BC-9EBD-2EDB049D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3E01-EAFF-4A28-9EA9-3192D1A5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EEECB-E66F-4AB7-907A-FF7177CB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103DA-4135-4A1E-9E40-5830BB05B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4746F-8CFF-48A1-B306-18DD1E65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0380A-F18A-41BD-83AB-F2BA9439F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75313-C9C2-4299-884B-482F55AD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0269B-7AB6-4E83-9C26-27D2C11A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B6BC3-7240-4FCF-A9A9-97C5C08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43DA2-733E-47E7-8C37-4B3AB4E7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4412F-975C-4358-BA2E-A22CCE0EF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33C87-B611-42AE-9C76-9FFBB9A7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74F-3BBD-4B62-871F-F3E6A6929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A09C-D4C8-4811-990C-64C02773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AE28-1740-4DFD-879A-6555CA59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468EA-230E-4F62-8F6B-FF22A730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4771-3A14-4320-8E4E-6CDB979A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0C731-E272-4BAA-9BA4-2A14E166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992D-F138-4161-BEDC-753A39CB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113B6-E405-48FC-A65B-05E520FF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DBFAD-54D0-407F-ADE9-15F8C8BF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E643A-E17A-4F12-A573-F4FC7668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1FF9E-B657-4CDC-AAEE-34B6FB20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54F3-003A-4112-80D6-1CBCC4523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D50E9-7DF4-41D9-862C-7EF602EC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D71D8-DCB7-4DE1-81DC-E2E57DAB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A4A5D-47CF-4782-9104-A16EDCD7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7AC5C-6854-4A6F-AAFB-BDE68F3C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F060E-3C4C-4074-A418-A510D744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20EB9-D875-4585-BD68-469845D1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859F4-059A-4185-A310-69586BC0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8B782-4C52-4AF1-9535-EFE1409D8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40553-56E8-4809-A051-E6E94AC86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E30D3-80EE-40CB-B27C-1CF40DA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A9D0-3617-4215-A9D4-1C37457FEA5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FB693EB9-A3F7-4B93-A277-B34619EA147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29D9-6B7A-4694-A117-22C08DDF006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7921291-390E-4426-8CC1-AFC47123B52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EE30-E52D-4E80-8D89-37BD062AD30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3180F41-B3DD-462E-9DD9-4CFAFA0456A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8006-478E-4FD7-94F6-20E52FFEACD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8EC789-7FFF-4439-98FC-D5535FEDDB5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7803-ADE2-4198-93BA-AAED883309E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9983053-EAB6-4F8B-AF85-D0F8BD48009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54D-0D1F-4AE4-B96A-B68C4B91AEE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EADFA01-4749-4A66-9846-EA0B64A4D1C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83EE-D2E6-41D1-B37B-51A2DD0B155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50CE02-FD0A-4DD9-ABF4-E8AE5BF7B56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3BC2-2AF9-452D-B049-65B3D8A475F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980A023-8509-43A2-BD2A-35E2366A955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B57C-5224-41C0-925B-8EB42190A72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D4D53C-209E-4C81-8D00-BC90CC5DF63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3C5D-58B4-48B5-BFFE-D1F7BD0D7A6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D71FE24-754C-421A-831F-9FD664590AA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B19-0B55-4B48-8F79-BF1D776B009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41F4161-E600-4DEF-9C02-E6FFE605BA3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89E1-1F3E-4F4C-BEF9-94625282C7E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F92BA8D-F3A0-4F89-B176-D0720F85019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4D20-B708-4487-9E51-B222CCB1C0C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876A523-CD26-49DC-B93C-A0060734AA4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695D-02BD-4E27-8B82-1F9AA4F3A8F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1A7D2F60-1E61-4908-A04D-D76996EBC26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8672-1473-42ED-86C0-480C15EF528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2EFC1FE-5AF2-4A03-98DD-29A8B3A9520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2327-BEA1-4B25-A86F-151B0267C27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0ACB83A-CA7F-496F-909F-3B742D37531D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6.png"/><Relationship Id="rId13" Type="http://schemas.openxmlformats.org/officeDocument/2006/relationships/image" Target="../media/image27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23640" y="1773000"/>
            <a:ext cx="84978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Russian banking system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in the world financial turmoil</a:t>
            </a:r>
            <a:r>
              <a:rPr b="1" lang="ru-RU" sz="3200" spc="-1" strike="noStrike">
                <a:solidFill>
                  <a:srgbClr val="333399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4" name="Picture 4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665" name="Text Box 5"/>
          <p:cNvSpPr/>
          <p:nvPr/>
        </p:nvSpPr>
        <p:spPr>
          <a:xfrm>
            <a:off x="298440" y="4714920"/>
            <a:ext cx="7345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Garegin A. Tosuny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27th MEETING OF THE EBF ASSOCIAT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4 December 2008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russels,</a:t>
            </a:r>
            <a:r>
              <a:rPr b="1" lang="ru-RU" sz="2000" spc="-1" strike="noStrike">
                <a:solidFill>
                  <a:srgbClr val="003399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Verdana"/>
              </a:rPr>
              <a:t>Belgium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 txBox="1"/>
          <p:nvPr/>
        </p:nvSpPr>
        <p:spPr>
          <a:xfrm>
            <a:off x="457200" y="30002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You have to dig a well before parched with thirst.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mar Haya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2C983F7-CBE3-4C89-BEB6-C10F6A0DEC96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D179893-46B7-468A-AC98-615EBBBB2680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ets growth rates slow dow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ource base defici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5" name="Object 3" descr=""/>
          <p:cNvPicPr/>
          <p:nvPr/>
        </p:nvPicPr>
        <p:blipFill>
          <a:blip r:embed="rId1"/>
          <a:stretch/>
        </p:blipFill>
        <p:spPr>
          <a:xfrm>
            <a:off x="12600" y="1666800"/>
            <a:ext cx="9131400" cy="4998960"/>
          </a:xfrm>
          <a:prstGeom prst="rect">
            <a:avLst/>
          </a:prstGeom>
          <a:ln w="0">
            <a:noFill/>
          </a:ln>
        </p:spPr>
      </p:pic>
      <p:sp>
        <p:nvSpPr>
          <p:cNvPr id="736" name="TextBox 5"/>
          <p:cNvSpPr/>
          <p:nvPr/>
        </p:nvSpPr>
        <p:spPr>
          <a:xfrm>
            <a:off x="371520" y="650088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E47D04D-1682-48A7-959E-88BB352F4578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lowdown in the growth rat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of resource base affects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growth rate of personal loan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9" name="Object 3" descr=""/>
          <p:cNvPicPr/>
          <p:nvPr/>
        </p:nvPicPr>
        <p:blipFill>
          <a:blip r:embed="rId1"/>
          <a:stretch/>
        </p:blipFill>
        <p:spPr>
          <a:xfrm>
            <a:off x="0" y="1571760"/>
            <a:ext cx="9144000" cy="5060880"/>
          </a:xfrm>
          <a:prstGeom prst="rect">
            <a:avLst/>
          </a:prstGeom>
          <a:ln w="0">
            <a:noFill/>
          </a:ln>
        </p:spPr>
      </p:pic>
      <p:sp>
        <p:nvSpPr>
          <p:cNvPr id="740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DE56A43-7871-49FC-BF45-2AAFE7905C1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rowth rates of loans to entities reduc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43" name="Object 3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0720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Номер слайда 1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74CF338-5308-4295-8AF4-7E34B3416161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6" name="Диаграмма 4" descr=""/>
          <p:cNvPicPr/>
          <p:nvPr/>
        </p:nvPicPr>
        <p:blipFill>
          <a:blip r:embed="rId1"/>
          <a:stretch/>
        </p:blipFill>
        <p:spPr>
          <a:xfrm>
            <a:off x="214200" y="1785960"/>
            <a:ext cx="8429760" cy="4857840"/>
          </a:xfrm>
          <a:prstGeom prst="rect">
            <a:avLst/>
          </a:prstGeom>
          <a:ln w="0">
            <a:noFill/>
          </a:ln>
        </p:spPr>
      </p:pic>
      <p:sp>
        <p:nvSpPr>
          <p:cNvPr id="747" name="Rectangle 2"/>
          <p:cNvSpPr/>
          <p:nvPr/>
        </p:nvSpPr>
        <p:spPr>
          <a:xfrm>
            <a:off x="1979640" y="692280"/>
            <a:ext cx="716436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hortage of banks’ resources should be covered by state fund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0A48919-379F-4371-9289-383AE236A92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82296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asures taken by the State are         of short-term character and will only help   to get over current issu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idterm liquidity constraints may be deepened by the necessity of payments on foreign loans.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FF47A95-979A-4EA7-AF98-D28F8F2C7C6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ternal debt of Russian Feder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06200" y="2565360"/>
          <a:ext cx="8929800" cy="3611520"/>
        </p:xfrm>
        <a:graphic>
          <a:graphicData uri="http://schemas.openxmlformats.org/drawingml/2006/table">
            <a:tbl>
              <a:tblPr/>
              <a:tblGrid>
                <a:gridCol w="3146760"/>
                <a:gridCol w="1068120"/>
                <a:gridCol w="1193760"/>
                <a:gridCol w="1258920"/>
                <a:gridCol w="1130400"/>
                <a:gridCol w="1131840"/>
              </a:tblGrid>
              <a:tr h="576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 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7.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u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280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V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I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rt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1 year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ver 2 year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3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6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3,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state debt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4,7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6,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2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,8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,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ernal debt of corporation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5,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6</a:t>
                      </a: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,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,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2,9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7,7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3" name="Oval 39"/>
          <p:cNvSpPr/>
          <p:nvPr/>
        </p:nvSpPr>
        <p:spPr>
          <a:xfrm>
            <a:off x="4492800" y="4929120"/>
            <a:ext cx="1150920" cy="1428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40"/>
          <p:cNvSpPr/>
          <p:nvPr/>
        </p:nvSpPr>
        <p:spPr>
          <a:xfrm>
            <a:off x="6372360" y="21978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$ bln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81D01AD-60BD-47B7-A984-FB2013136E8E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n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antirecessionary measures of the Russian Government are adequate to the current situation in banking sector, however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C64491-C798-491D-B7FB-1F73A508D35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TextBox 3"/>
          <p:cNvSpPr/>
          <p:nvPr/>
        </p:nvSpPr>
        <p:spPr>
          <a:xfrm>
            <a:off x="357120" y="1500120"/>
            <a:ext cx="70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ome additional steps should be taken for stabilization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0" name="Схема 4" descr=""/>
          <p:cNvPicPr/>
          <p:nvPr/>
        </p:nvPicPr>
        <p:blipFill>
          <a:blip r:embed="rId1"/>
          <a:stretch/>
        </p:blipFill>
        <p:spPr>
          <a:xfrm>
            <a:off x="195120" y="2249640"/>
            <a:ext cx="868680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FE9CB31-F613-4D69-BEDC-C681CBFA88B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684360" y="2419200"/>
            <a:ext cx="7738920" cy="31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urrent problems in the banking system and the financial sector in Russia have not been caused by internal economic developments. They have been “delivered” by the international financial turmoil.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its basic characteristics Russian economy is attractive for long-term invest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pite the market slump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Диаграмма 8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6286680" cy="2643120"/>
          </a:xfrm>
          <a:prstGeom prst="rect">
            <a:avLst/>
          </a:prstGeom>
          <a:ln w="0">
            <a:noFill/>
          </a:ln>
        </p:spPr>
      </p:pic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influence of the crisis on the banking system and the economy of Russi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C5340BCA-72E8-44E2-B1FA-41C29ED9A46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4"/>
          <p:cNvSpPr/>
          <p:nvPr/>
        </p:nvSpPr>
        <p:spPr>
          <a:xfrm>
            <a:off x="6682680" y="1785960"/>
            <a:ext cx="223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 Sep.-Oct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e reserv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ve reduc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by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19,1%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Схема 12" descr=""/>
          <p:cNvPicPr/>
          <p:nvPr/>
        </p:nvPicPr>
        <p:blipFill>
          <a:blip r:embed="rId2"/>
          <a:stretch/>
        </p:blipFill>
        <p:spPr>
          <a:xfrm>
            <a:off x="-19080" y="3505320"/>
            <a:ext cx="9248760" cy="3359160"/>
          </a:xfrm>
          <a:prstGeom prst="rect">
            <a:avLst/>
          </a:prstGeom>
          <a:ln w="0">
            <a:noFill/>
          </a:ln>
        </p:spPr>
      </p:pic>
      <p:sp>
        <p:nvSpPr>
          <p:cNvPr id="671" name="TextBox 13"/>
          <p:cNvSpPr/>
          <p:nvPr/>
        </p:nvSpPr>
        <p:spPr>
          <a:xfrm>
            <a:off x="2328480" y="5929200"/>
            <a:ext cx="36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c8c93"/>
                </a:solidFill>
                <a:latin typeface="Verdana"/>
              </a:rPr>
              <a:t>the course of the crisi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TextBox 7"/>
          <p:cNvSpPr/>
          <p:nvPr/>
        </p:nvSpPr>
        <p:spPr>
          <a:xfrm>
            <a:off x="546480" y="4000680"/>
            <a:ext cx="152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Bank of Russia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TextBox 8"/>
          <p:cNvSpPr/>
          <p:nvPr/>
        </p:nvSpPr>
        <p:spPr>
          <a:xfrm>
            <a:off x="571680" y="1547640"/>
            <a:ext cx="58575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national reserves of Russian Federation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$ bln.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Содержимое 16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764" name="Содержимое 14" descr=""/>
          <p:cNvPicPr/>
          <p:nvPr/>
        </p:nvPicPr>
        <p:blipFill>
          <a:blip r:embed="rId2"/>
          <a:stretch/>
        </p:blipFill>
        <p:spPr>
          <a:xfrm>
            <a:off x="4929120" y="1857240"/>
            <a:ext cx="4038840" cy="4597560"/>
          </a:xfrm>
          <a:prstGeom prst="rect">
            <a:avLst/>
          </a:prstGeom>
          <a:ln w="0">
            <a:noFill/>
          </a:ln>
        </p:spPr>
      </p:pic>
      <p:sp>
        <p:nvSpPr>
          <p:cNvPr id="765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13A9513-AF76-44D0-8736-1EC2DEF3174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66" name="Picture 34" descr=""/>
          <p:cNvPicPr/>
          <p:nvPr/>
        </p:nvPicPr>
        <p:blipFill>
          <a:blip r:embed="rId3"/>
          <a:stretch/>
        </p:blipFill>
        <p:spPr>
          <a:xfrm>
            <a:off x="138240" y="346716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35" descr=""/>
          <p:cNvPicPr/>
          <p:nvPr/>
        </p:nvPicPr>
        <p:blipFill>
          <a:blip r:embed="rId4"/>
          <a:stretch/>
        </p:blipFill>
        <p:spPr>
          <a:xfrm>
            <a:off x="139680" y="4754520"/>
            <a:ext cx="432000" cy="38916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36" descr=""/>
          <p:cNvPicPr/>
          <p:nvPr/>
        </p:nvPicPr>
        <p:blipFill>
          <a:blip r:embed="rId5"/>
          <a:stretch/>
        </p:blipFill>
        <p:spPr>
          <a:xfrm>
            <a:off x="142920" y="542916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69" name="Picture 37" descr=""/>
          <p:cNvPicPr/>
          <p:nvPr/>
        </p:nvPicPr>
        <p:blipFill>
          <a:blip r:embed="rId6"/>
          <a:stretch/>
        </p:blipFill>
        <p:spPr>
          <a:xfrm>
            <a:off x="163440" y="2814480"/>
            <a:ext cx="408240" cy="32868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43" descr=""/>
          <p:cNvPicPr/>
          <p:nvPr/>
        </p:nvPicPr>
        <p:blipFill>
          <a:blip r:embed="rId7"/>
          <a:stretch/>
        </p:blipFill>
        <p:spPr>
          <a:xfrm>
            <a:off x="4641840" y="2111400"/>
            <a:ext cx="431640" cy="388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44" descr=""/>
          <p:cNvPicPr/>
          <p:nvPr/>
        </p:nvPicPr>
        <p:blipFill>
          <a:blip r:embed="rId8"/>
          <a:stretch/>
        </p:blipFill>
        <p:spPr>
          <a:xfrm>
            <a:off x="4641840" y="2786040"/>
            <a:ext cx="433440" cy="39204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45" descr=""/>
          <p:cNvPicPr/>
          <p:nvPr/>
        </p:nvPicPr>
        <p:blipFill>
          <a:blip r:embed="rId9"/>
          <a:stretch/>
        </p:blipFill>
        <p:spPr>
          <a:xfrm>
            <a:off x="4641840" y="4143240"/>
            <a:ext cx="431640" cy="374760"/>
          </a:xfrm>
          <a:prstGeom prst="rect">
            <a:avLst/>
          </a:prstGeom>
          <a:ln w="0">
            <a:noFill/>
          </a:ln>
        </p:spPr>
      </p:pic>
      <p:pic>
        <p:nvPicPr>
          <p:cNvPr id="773" name="Picture 47" descr=""/>
          <p:cNvPicPr/>
          <p:nvPr/>
        </p:nvPicPr>
        <p:blipFill>
          <a:blip r:embed="rId10"/>
          <a:stretch/>
        </p:blipFill>
        <p:spPr>
          <a:xfrm>
            <a:off x="4641840" y="3500280"/>
            <a:ext cx="407880" cy="328680"/>
          </a:xfrm>
          <a:prstGeom prst="rect">
            <a:avLst/>
          </a:prstGeom>
          <a:ln w="0">
            <a:noFill/>
          </a:ln>
        </p:spPr>
      </p:pic>
      <p:sp>
        <p:nvSpPr>
          <p:cNvPr id="774" name="TextBox 17"/>
          <p:cNvSpPr/>
          <p:nvPr/>
        </p:nvSpPr>
        <p:spPr>
          <a:xfrm>
            <a:off x="993600" y="1643040"/>
            <a:ext cx="25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per capita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Box 18"/>
          <p:cNvSpPr/>
          <p:nvPr/>
        </p:nvSpPr>
        <p:spPr>
          <a:xfrm>
            <a:off x="6000840" y="1643040"/>
            <a:ext cx="163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DP  2007, $ bln.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6" name="Picture 4" descr=""/>
          <p:cNvPicPr/>
          <p:nvPr/>
        </p:nvPicPr>
        <p:blipFill>
          <a:blip r:embed="rId11"/>
          <a:stretch/>
        </p:blipFill>
        <p:spPr>
          <a:xfrm>
            <a:off x="147600" y="4143240"/>
            <a:ext cx="424080" cy="35748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4" descr=""/>
          <p:cNvPicPr/>
          <p:nvPr/>
        </p:nvPicPr>
        <p:blipFill>
          <a:blip r:embed="rId12"/>
          <a:stretch/>
        </p:blipFill>
        <p:spPr>
          <a:xfrm>
            <a:off x="4610160" y="4786200"/>
            <a:ext cx="423720" cy="357480"/>
          </a:xfrm>
          <a:prstGeom prst="rect">
            <a:avLst/>
          </a:prstGeom>
          <a:ln w="0">
            <a:noFill/>
          </a:ln>
        </p:spPr>
      </p:pic>
      <p:pic>
        <p:nvPicPr>
          <p:cNvPr id="778" name="chart" descr=""/>
          <p:cNvPicPr/>
          <p:nvPr/>
        </p:nvPicPr>
        <p:blipFill>
          <a:blip r:embed="rId13"/>
          <a:stretch/>
        </p:blipFill>
        <p:spPr>
          <a:xfrm>
            <a:off x="4603680" y="5429160"/>
            <a:ext cx="428760" cy="373320"/>
          </a:xfrm>
          <a:prstGeom prst="rect">
            <a:avLst/>
          </a:prstGeom>
          <a:ln w="0">
            <a:noFill/>
          </a:ln>
        </p:spPr>
      </p:pic>
      <p:pic>
        <p:nvPicPr>
          <p:cNvPr id="779" name="chart" descr=""/>
          <p:cNvPicPr/>
          <p:nvPr/>
        </p:nvPicPr>
        <p:blipFill>
          <a:blip r:embed="rId14"/>
          <a:stretch/>
        </p:blipFill>
        <p:spPr>
          <a:xfrm>
            <a:off x="155520" y="2143080"/>
            <a:ext cx="428760" cy="372960"/>
          </a:xfrm>
          <a:prstGeom prst="rect">
            <a:avLst/>
          </a:prstGeom>
          <a:ln w="0">
            <a:noFill/>
          </a:ln>
        </p:spPr>
      </p:pic>
      <p:sp>
        <p:nvSpPr>
          <p:cNvPr id="780" name="Rectangle 2"/>
          <p:cNvSpPr/>
          <p:nvPr/>
        </p:nvSpPr>
        <p:spPr>
          <a:xfrm>
            <a:off x="2000160" y="714240"/>
            <a:ext cx="71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of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merging market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TextBox 24"/>
          <p:cNvSpPr/>
          <p:nvPr/>
        </p:nvSpPr>
        <p:spPr>
          <a:xfrm>
            <a:off x="104400" y="6500880"/>
            <a:ext cx="95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Source: IMF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DFFD0A0E-BF71-41A6-A70F-E603FB387FF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arative economic development indexes             of various countries and Russia in 200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4" name="Object 2" descr=""/>
          <p:cNvPicPr/>
          <p:nvPr/>
        </p:nvPicPr>
        <p:blipFill>
          <a:blip r:embed="rId1"/>
          <a:stretch/>
        </p:blipFill>
        <p:spPr>
          <a:xfrm>
            <a:off x="-79200" y="1685880"/>
            <a:ext cx="9144000" cy="4336920"/>
          </a:xfrm>
          <a:prstGeom prst="rect">
            <a:avLst/>
          </a:prstGeom>
          <a:ln w="0">
            <a:noFill/>
          </a:ln>
        </p:spPr>
      </p:pic>
      <p:pic>
        <p:nvPicPr>
          <p:cNvPr id="785" name="Object 3" descr=""/>
          <p:cNvPicPr/>
          <p:nvPr/>
        </p:nvPicPr>
        <p:blipFill>
          <a:blip r:embed="rId2"/>
          <a:stretch/>
        </p:blipFill>
        <p:spPr>
          <a:xfrm>
            <a:off x="250920" y="1714680"/>
            <a:ext cx="91821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11FE380-46FC-4BD9-B8AB-4E1B0FC7DAF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apitalization of the banking system slows dow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ue to restrictive monetary policy and outflow of foreign liabilities of Russian bank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8" name="Object 3" descr=""/>
          <p:cNvPicPr/>
          <p:nvPr/>
        </p:nvPicPr>
        <p:blipFill>
          <a:blip r:embed="rId1"/>
          <a:stretch/>
        </p:blipFill>
        <p:spPr>
          <a:xfrm>
            <a:off x="0" y="1522440"/>
            <a:ext cx="9144000" cy="5049720"/>
          </a:xfrm>
          <a:prstGeom prst="rect">
            <a:avLst/>
          </a:prstGeom>
          <a:ln w="0">
            <a:noFill/>
          </a:ln>
        </p:spPr>
      </p:pic>
      <p:sp>
        <p:nvSpPr>
          <p:cNvPr id="789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0880C5F-A155-41AE-AA99-13D80B480C6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urmoil both on global and Russian markets leads to the outgo of foreign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2" name="Object 4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48578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7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64A24EB-6041-4465-8AE4-18540314807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omestic liabilities of bank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6" name="Object 3" descr=""/>
          <p:cNvPicPr/>
          <p:nvPr/>
        </p:nvPicPr>
        <p:blipFill>
          <a:blip r:embed="rId1"/>
          <a:stretch/>
        </p:blipFill>
        <p:spPr>
          <a:xfrm>
            <a:off x="57240" y="1428840"/>
            <a:ext cx="9086760" cy="5184720"/>
          </a:xfrm>
          <a:prstGeom prst="rect">
            <a:avLst/>
          </a:prstGeom>
          <a:ln w="0">
            <a:noFill/>
          </a:ln>
        </p:spPr>
      </p:pic>
      <p:sp>
        <p:nvSpPr>
          <p:cNvPr id="797" name="TextBox 5"/>
          <p:cNvSpPr/>
          <p:nvPr/>
        </p:nvSpPr>
        <p:spPr>
          <a:xfrm>
            <a:off x="371520" y="6524640"/>
            <a:ext cx="1067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* YTD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owth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F7767BB-67BE-4BAB-B885-FF5E7F237B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growth rates slow down in 2008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0" name="Oval 4"/>
          <p:cNvSpPr/>
          <p:nvPr/>
        </p:nvSpPr>
        <p:spPr>
          <a:xfrm>
            <a:off x="5054760" y="2205000"/>
            <a:ext cx="2017440" cy="1224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1" name="Object 2" descr=""/>
          <p:cNvPicPr/>
          <p:nvPr/>
        </p:nvPicPr>
        <p:blipFill>
          <a:blip r:embed="rId1"/>
          <a:stretch/>
        </p:blipFill>
        <p:spPr>
          <a:xfrm>
            <a:off x="0" y="1614600"/>
            <a:ext cx="91440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9D32671-16A5-4E62-8E08-5F215073A72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Object 2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verage indicators of personal income growth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ceed price increase, nevertheless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5" name="Oval 3"/>
          <p:cNvSpPr/>
          <p:nvPr/>
        </p:nvSpPr>
        <p:spPr>
          <a:xfrm>
            <a:off x="3708360" y="3139920"/>
            <a:ext cx="1008000" cy="50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Text Box 5"/>
          <p:cNvSpPr/>
          <p:nvPr/>
        </p:nvSpPr>
        <p:spPr>
          <a:xfrm>
            <a:off x="5842080" y="4692600"/>
            <a:ext cx="247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flation firstl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ats away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inc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f the poores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opulation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C1073DD-6A6F-49E9-AE9F-BE2A4FD81E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ross-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tional income spread is wide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09" name="Group 17"/>
          <p:cNvGrpSpPr/>
          <p:nvPr/>
        </p:nvGrpSpPr>
        <p:grpSpPr>
          <a:xfrm>
            <a:off x="755640" y="1495440"/>
            <a:ext cx="7777080" cy="5102280"/>
            <a:chOff x="755640" y="1495440"/>
            <a:chExt cx="7777080" cy="5102280"/>
          </a:xfrm>
        </p:grpSpPr>
        <p:pic>
          <p:nvPicPr>
            <p:cNvPr id="810" name="Picture 3" descr=""/>
            <p:cNvPicPr/>
            <p:nvPr/>
          </p:nvPicPr>
          <p:blipFill>
            <a:blip r:embed="rId1"/>
            <a:stretch/>
          </p:blipFill>
          <p:spPr>
            <a:xfrm>
              <a:off x="755640" y="1913040"/>
              <a:ext cx="7777080" cy="468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Text Box 4"/>
            <p:cNvSpPr/>
            <p:nvPr/>
          </p:nvSpPr>
          <p:spPr>
            <a:xfrm>
              <a:off x="2472840" y="1495440"/>
              <a:ext cx="411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Verdana"/>
                </a:rPr>
                <a:t>Lorenz Curve &amp; Gini Index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2" name="Text Box 5"/>
            <p:cNvSpPr/>
            <p:nvPr/>
          </p:nvSpPr>
          <p:spPr>
            <a:xfrm>
              <a:off x="5796000" y="4781520"/>
              <a:ext cx="24080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6600"/>
                  </a:solidFill>
                  <a:latin typeface="Verdana"/>
                </a:rPr>
                <a:t>80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the population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btain  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Verdana"/>
                </a:rPr>
                <a:t>45%</a:t>
              </a: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of income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3" name="Text Box 7"/>
            <p:cNvSpPr/>
            <p:nvPr/>
          </p:nvSpPr>
          <p:spPr>
            <a:xfrm>
              <a:off x="808200" y="5816520"/>
              <a:ext cx="4340160" cy="5806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population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4" name="Text Box 8"/>
            <p:cNvSpPr/>
            <p:nvPr/>
          </p:nvSpPr>
          <p:spPr>
            <a:xfrm rot="16200000">
              <a:off x="-147240" y="3865320"/>
              <a:ext cx="2143800" cy="337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umulative income</a:t>
              </a:r>
              <a:endParaRPr b="1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5" name="Text Box 9"/>
            <p:cNvSpPr/>
            <p:nvPr/>
          </p:nvSpPr>
          <p:spPr>
            <a:xfrm>
              <a:off x="6373800" y="216864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Hungr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27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6" name="Text Box 10"/>
            <p:cNvSpPr/>
            <p:nvPr/>
          </p:nvSpPr>
          <p:spPr>
            <a:xfrm>
              <a:off x="6372360" y="278136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Russia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49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7" name="Text Box 11"/>
            <p:cNvSpPr/>
            <p:nvPr/>
          </p:nvSpPr>
          <p:spPr>
            <a:xfrm>
              <a:off x="6373800" y="3357720"/>
              <a:ext cx="2158920" cy="4183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Brazil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(Gini Index=64%)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8" name="Text Box 14"/>
            <p:cNvSpPr/>
            <p:nvPr/>
          </p:nvSpPr>
          <p:spPr>
            <a:xfrm>
              <a:off x="1042920" y="2006640"/>
              <a:ext cx="3673440" cy="198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19" name="Text Box 15"/>
            <p:cNvSpPr/>
            <p:nvPr/>
          </p:nvSpPr>
          <p:spPr>
            <a:xfrm rot="18887400">
              <a:off x="1608120" y="3631320"/>
              <a:ext cx="2651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Perfect equality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0" name="Rectangle 6"/>
            <p:cNvSpPr/>
            <p:nvPr/>
          </p:nvSpPr>
          <p:spPr>
            <a:xfrm>
              <a:off x="1116000" y="4076640"/>
              <a:ext cx="2879640" cy="1728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1" name="Text Box 16"/>
            <p:cNvSpPr/>
            <p:nvPr/>
          </p:nvSpPr>
          <p:spPr>
            <a:xfrm>
              <a:off x="6329520" y="3916440"/>
              <a:ext cx="2087280" cy="520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Perfect inequality</a:t>
              </a: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65EDC39-1F02-4677-B983-8233FEB050F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covery measur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15560" y="1630440"/>
            <a:ext cx="4498920" cy="5038560"/>
          </a:xfrm>
          <a:prstGeom prst="rect">
            <a:avLst/>
          </a:prstGeom>
          <a:noFill/>
          <a:ln w="381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te meas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rve requirements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om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5,5-8,5%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1,5- 4,5%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reased refinancing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inistry of Finance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laced fund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(≈ 1,2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igned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0,5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l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bles for the capital marke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tate Agency for Deposit Insuran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urance compensation is increased from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4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700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ousand ruble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ecured lending         of banks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BR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financing foreign loans through VE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Rectangle 4"/>
          <p:cNvSpPr/>
          <p:nvPr/>
        </p:nvSpPr>
        <p:spPr>
          <a:xfrm>
            <a:off x="4716360" y="1628640"/>
            <a:ext cx="4319640" cy="504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RB sugges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convey the allocated funds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o the majority of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rant access of the banks rated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S&amp;P, Fitch B-/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oody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 B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nd capital over 1 bln. rubles to state resource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redit banks for the amount up to 50% of their capital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and Ministry of Finance should refinance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reign loans of the banks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BR should enlarge and simplify banks’ refinancing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B2898A9C-B7B4-4CC0-87F1-B8F6CC6F806F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7164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питал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28" name="Object 3" descr=""/>
          <p:cNvPicPr/>
          <p:nvPr/>
        </p:nvPicPr>
        <p:blipFill>
          <a:blip r:embed="rId1"/>
          <a:stretch/>
        </p:blipFill>
        <p:spPr>
          <a:xfrm>
            <a:off x="615960" y="4156200"/>
            <a:ext cx="7824600" cy="2701800"/>
          </a:xfrm>
          <a:prstGeom prst="rect">
            <a:avLst/>
          </a:prstGeom>
          <a:ln w="0">
            <a:noFill/>
          </a:ln>
        </p:spPr>
      </p:pic>
      <p:pic>
        <p:nvPicPr>
          <p:cNvPr id="829" name="Object 4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8944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10" descr=""/>
          <p:cNvPicPr/>
          <p:nvPr/>
        </p:nvPicPr>
        <p:blipFill>
          <a:blip r:embed="rId1"/>
          <a:stretch/>
        </p:blipFill>
        <p:spPr>
          <a:xfrm>
            <a:off x="41400" y="1928880"/>
            <a:ext cx="5072040" cy="405756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0" descr=""/>
          <p:cNvPicPr/>
          <p:nvPr/>
        </p:nvPicPr>
        <p:blipFill>
          <a:blip r:embed="rId2"/>
          <a:stretch/>
        </p:blipFill>
        <p:spPr>
          <a:xfrm>
            <a:off x="5214960" y="2786040"/>
            <a:ext cx="3786120" cy="3164040"/>
          </a:xfrm>
          <a:prstGeom prst="rect">
            <a:avLst/>
          </a:prstGeom>
          <a:ln w="0">
            <a:noFill/>
          </a:ln>
        </p:spPr>
      </p:pic>
      <p:sp>
        <p:nvSpPr>
          <p:cNvPr id="67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268080F-6E77-45FD-9F50-0398C333602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1979640" y="620640"/>
            <a:ext cx="71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Восстановится многое из того, что сейчас рушится,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и будет разрушено многое из того, что сейчас в почете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Квинт Гораций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Oval 8"/>
          <p:cNvSpPr/>
          <p:nvPr/>
        </p:nvSpPr>
        <p:spPr>
          <a:xfrm>
            <a:off x="3903840" y="3643200"/>
            <a:ext cx="793440" cy="2000520"/>
          </a:xfrm>
          <a:prstGeom prst="ellips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AutoShape 9"/>
          <p:cNvSpPr/>
          <p:nvPr/>
        </p:nvSpPr>
        <p:spPr>
          <a:xfrm>
            <a:off x="4475160" y="4208400"/>
            <a:ext cx="1152360" cy="863640"/>
          </a:xfrm>
          <a:prstGeom prst="pie">
            <a:avLst/>
          </a:prstGeom>
          <a:solidFill>
            <a:srgbClr val="bbe0e3">
              <a:alpha val="2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Text Box 9"/>
          <p:cNvSpPr/>
          <p:nvPr/>
        </p:nvSpPr>
        <p:spPr>
          <a:xfrm>
            <a:off x="174240" y="6524640"/>
            <a:ext cx="13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: Micex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RBC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Text Box 10"/>
          <p:cNvSpPr/>
          <p:nvPr/>
        </p:nvSpPr>
        <p:spPr>
          <a:xfrm>
            <a:off x="479160" y="50720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MICEX INDEX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093F34-9309-485A-B55F-578EA13C4687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1" name="Object 2" descr=""/>
          <p:cNvPicPr/>
          <p:nvPr/>
        </p:nvPicPr>
        <p:blipFill>
          <a:blip r:embed="rId1"/>
          <a:stretch/>
        </p:blipFill>
        <p:spPr>
          <a:xfrm>
            <a:off x="425520" y="4187880"/>
            <a:ext cx="8383680" cy="280332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050560" y="764640"/>
            <a:ext cx="709308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Активы банк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7210440" y="6461280"/>
            <a:ext cx="1933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*данные по США 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с учетом фондового рынка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4" name="Object 5" descr=""/>
          <p:cNvPicPr/>
          <p:nvPr/>
        </p:nvPicPr>
        <p:blipFill>
          <a:blip r:embed="rId2"/>
          <a:stretch/>
        </p:blipFill>
        <p:spPr>
          <a:xfrm>
            <a:off x="379440" y="1341360"/>
            <a:ext cx="838512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3D9CCC4-12F0-47C3-9D85-2360C59AB412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6" name="Object 2" descr=""/>
          <p:cNvPicPr/>
          <p:nvPr/>
        </p:nvPicPr>
        <p:blipFill>
          <a:blip r:embed="rId1"/>
          <a:stretch/>
        </p:blipFill>
        <p:spPr>
          <a:xfrm>
            <a:off x="0" y="136224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979280" y="691920"/>
            <a:ext cx="716436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DP per capita in various countries in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2007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ousand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$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8" name="Text Box 4"/>
          <p:cNvSpPr/>
          <p:nvPr/>
        </p:nvSpPr>
        <p:spPr>
          <a:xfrm>
            <a:off x="1590840" y="1982880"/>
            <a:ext cx="2476440" cy="1465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0,0004%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of the populatio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ccount for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52%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of the GDP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716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. $)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Text Box 5"/>
          <p:cNvSpPr/>
          <p:nvPr/>
        </p:nvSpPr>
        <p:spPr>
          <a:xfrm>
            <a:off x="158040" y="6499080"/>
            <a:ext cx="30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*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ou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5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chest persons of Russia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Схема 5" descr=""/>
          <p:cNvPicPr/>
          <p:nvPr/>
        </p:nvPicPr>
        <p:blipFill>
          <a:blip r:embed="rId1"/>
          <a:stretch/>
        </p:blipFill>
        <p:spPr>
          <a:xfrm>
            <a:off x="208080" y="1530360"/>
            <a:ext cx="8802720" cy="51944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he policy of Russian government should prevent from turning the financial crisis into a global economic crisis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Номер слайда 2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CD7C86C-C5D6-4340-9B3D-CCA897F988B9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Не равно 4"/>
          <p:cNvSpPr/>
          <p:nvPr/>
        </p:nvSpPr>
        <p:spPr>
          <a:xfrm>
            <a:off x="4157640" y="1714680"/>
            <a:ext cx="843120" cy="7142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Плюс 6"/>
          <p:cNvSpPr/>
          <p:nvPr/>
        </p:nvSpPr>
        <p:spPr>
          <a:xfrm>
            <a:off x="7429680" y="4214880"/>
            <a:ext cx="914400" cy="914400"/>
          </a:xfrm>
          <a:prstGeom prst="pie">
            <a:avLst/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Минус 7"/>
          <p:cNvSpPr/>
          <p:nvPr/>
        </p:nvSpPr>
        <p:spPr>
          <a:xfrm>
            <a:off x="785880" y="4071960"/>
            <a:ext cx="914400" cy="91440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asic macroeconomic and banking sector indicators slow dow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89" name=""/>
          <p:cNvGraphicFramePr/>
          <p:nvPr/>
        </p:nvGraphicFramePr>
        <p:xfrm>
          <a:off x="285840" y="1658880"/>
          <a:ext cx="8715240" cy="4984920"/>
        </p:xfrm>
        <a:graphic>
          <a:graphicData uri="http://schemas.openxmlformats.org/drawingml/2006/table">
            <a:tbl>
              <a:tblPr/>
              <a:tblGrid>
                <a:gridCol w="4143240"/>
                <a:gridCol w="1214640"/>
                <a:gridCol w="1666800"/>
                <a:gridCol w="169056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dicator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(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ln. $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)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1.01.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ange in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9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nths of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200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ts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5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2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ty of bank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7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72,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9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ans to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8,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5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4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househol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6,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4,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s of entitie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82,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7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34,5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73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croeconomic indicator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DP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19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estments in fixed capital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6,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3,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21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l income of the popu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5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7,8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0,4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lation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11,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 9,3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69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531085-90B7-498F-BCEB-F4F0800B858B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Номер слайда 6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58C9BE6-C68E-4C49-B2C1-C3F0ED99710C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985760" y="699840"/>
            <a:ext cx="71434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ussia falls behind other countries by absolute and relative in</a:t>
            </a:r>
            <a:r>
              <a:rPr b="0" lang="ru-RU" sz="22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icators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693" name="Содержимое 9"/>
          <p:cNvGraphicFramePr/>
          <p:nvPr/>
        </p:nvGraphicFramePr>
        <p:xfrm>
          <a:off x="139680" y="1660680"/>
          <a:ext cx="2851200" cy="486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4" name="Содержимое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1660680"/>
                    <a:ext cx="2851200" cy="48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5" name="Object 5"/>
          <p:cNvGraphicFramePr/>
          <p:nvPr/>
        </p:nvGraphicFramePr>
        <p:xfrm>
          <a:off x="3146400" y="1658880"/>
          <a:ext cx="2835360" cy="4835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46400" y="1658880"/>
                    <a:ext cx="2835360" cy="483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Object 6"/>
          <p:cNvGraphicFramePr/>
          <p:nvPr/>
        </p:nvGraphicFramePr>
        <p:xfrm>
          <a:off x="6168960" y="1660680"/>
          <a:ext cx="2927520" cy="48574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68960" y="1660680"/>
                    <a:ext cx="2927520" cy="48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Равно 28"/>
          <p:cNvSpPr/>
          <p:nvPr/>
        </p:nvSpPr>
        <p:spPr>
          <a:xfrm>
            <a:off x="5715000" y="3728880"/>
            <a:ext cx="771480" cy="77184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Деление 26"/>
          <p:cNvSpPr/>
          <p:nvPr/>
        </p:nvSpPr>
        <p:spPr>
          <a:xfrm>
            <a:off x="2714760" y="3714840"/>
            <a:ext cx="730080" cy="725400"/>
          </a:xfrm>
          <a:prstGeom prst="pie">
            <a:avLst/>
          </a:prstGeom>
          <a:solidFill>
            <a:srgbClr val="ffffff">
              <a:alpha val="60000"/>
            </a:srgbClr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01" name="Прямая со стрелкой 30"/>
          <p:cNvCxnSpPr/>
          <p:nvPr/>
        </p:nvCxnSpPr>
        <p:spPr>
          <a:xfrm flipH="1" flipV="1">
            <a:off x="1356480" y="2428560"/>
            <a:ext cx="78660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2" name="TextBox 31"/>
          <p:cNvSpPr/>
          <p:nvPr/>
        </p:nvSpPr>
        <p:spPr>
          <a:xfrm>
            <a:off x="1483920" y="2143080"/>
            <a:ext cx="62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11,7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Х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TextBox 10"/>
          <p:cNvSpPr/>
          <p:nvPr/>
        </p:nvSpPr>
        <p:spPr>
          <a:xfrm>
            <a:off x="61920" y="6670800"/>
            <a:ext cx="421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ource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of Russia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Deutsche Bundesbank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IMF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TextBox 11"/>
          <p:cNvSpPr/>
          <p:nvPr/>
        </p:nvSpPr>
        <p:spPr>
          <a:xfrm>
            <a:off x="2163240" y="6072120"/>
            <a:ext cx="45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ussia has a crisis of underproductio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AB00AA2-7E2D-4CEC-8795-4C6D11C28A63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Text Box 3"/>
          <p:cNvSpPr/>
          <p:nvPr/>
        </p:nvSpPr>
        <p:spPr>
          <a:xfrm>
            <a:off x="4844880" y="3798720"/>
            <a:ext cx="395928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7" name="Содержимое 6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4429080" cy="5114880"/>
          </a:xfrm>
          <a:prstGeom prst="rect">
            <a:avLst/>
          </a:prstGeom>
          <a:ln w="0">
            <a:noFill/>
          </a:ln>
        </p:spPr>
      </p:pic>
      <p:pic>
        <p:nvPicPr>
          <p:cNvPr id="708" name="Object 3" descr=""/>
          <p:cNvPicPr/>
          <p:nvPr/>
        </p:nvPicPr>
        <p:blipFill>
          <a:blip r:embed="rId2"/>
          <a:stretch/>
        </p:blipFill>
        <p:spPr>
          <a:xfrm>
            <a:off x="4714920" y="1571760"/>
            <a:ext cx="4286160" cy="5114880"/>
          </a:xfrm>
          <a:prstGeom prst="rect">
            <a:avLst/>
          </a:prstGeom>
          <a:ln w="0">
            <a:noFill/>
          </a:ln>
        </p:spPr>
      </p:pic>
      <p:sp>
        <p:nvSpPr>
          <p:cNvPr id="709" name="Прямая соединительная линия 8"/>
          <p:cNvSpPr/>
          <p:nvPr/>
        </p:nvSpPr>
        <p:spPr>
          <a:xfrm flipH="1">
            <a:off x="4070520" y="2071800"/>
            <a:ext cx="1440" cy="450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0" name="Прямая со стрелкой 10"/>
          <p:cNvCxnSpPr/>
          <p:nvPr/>
        </p:nvCxnSpPr>
        <p:spPr>
          <a:xfrm flipH="1" flipV="1">
            <a:off x="2285280" y="6428520"/>
            <a:ext cx="17866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1" name="TextBox 11"/>
          <p:cNvSpPr/>
          <p:nvPr/>
        </p:nvSpPr>
        <p:spPr>
          <a:xfrm>
            <a:off x="2972880" y="6264360"/>
            <a:ext cx="534240" cy="3070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х 5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Прямая соединительная линия 15"/>
          <p:cNvSpPr/>
          <p:nvPr/>
        </p:nvSpPr>
        <p:spPr>
          <a:xfrm flipH="1">
            <a:off x="7786800" y="5429160"/>
            <a:ext cx="144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713" name="Прямая со стрелкой 19"/>
          <p:cNvCxnSpPr/>
          <p:nvPr/>
        </p:nvCxnSpPr>
        <p:spPr>
          <a:xfrm flipH="1" flipV="1">
            <a:off x="6928920" y="6286320"/>
            <a:ext cx="85824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14" name="Rectangle 2"/>
          <p:cNvSpPr/>
          <p:nvPr/>
        </p:nvSpPr>
        <p:spPr>
          <a:xfrm>
            <a:off x="1979640" y="708120"/>
            <a:ext cx="716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Russia falls behind many other countries in mortgage lending despite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high growth rates of the marke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Схема 6" descr=""/>
          <p:cNvPicPr/>
          <p:nvPr/>
        </p:nvPicPr>
        <p:blipFill>
          <a:blip r:embed="rId1"/>
          <a:stretch/>
        </p:blipFill>
        <p:spPr>
          <a:xfrm>
            <a:off x="920880" y="1822320"/>
            <a:ext cx="7441920" cy="4962600"/>
          </a:xfrm>
          <a:prstGeom prst="rect">
            <a:avLst/>
          </a:prstGeom>
          <a:ln w="0">
            <a:noFill/>
          </a:ln>
        </p:spPr>
      </p:pic>
      <p:sp>
        <p:nvSpPr>
          <p:cNvPr id="716" name="Скругленный прямоугольник 9"/>
          <p:cNvSpPr/>
          <p:nvPr/>
        </p:nvSpPr>
        <p:spPr>
          <a:xfrm>
            <a:off x="3929040" y="1785960"/>
            <a:ext cx="1428840" cy="3214800"/>
          </a:xfrm>
          <a:custGeom>
            <a:avLst/>
            <a:gdLst>
              <a:gd name="textAreaLeft" fmla="*/ 69480 w 1428840"/>
              <a:gd name="textAreaRight" fmla="*/ 1359360 w 1428840"/>
              <a:gd name="textAreaTop" fmla="*/ 69480 h 3214800"/>
              <a:gd name="textAreaBottom" fmla="*/ 3145320 h 3214800"/>
            </a:gdLst>
            <a:ahLst/>
            <a:rect l="textAreaLeft" t="textAreaTop" r="textAreaRight" b="textAreaBottom"/>
            <a:pathLst>
              <a:path w="21600" h="48592">
                <a:moveTo>
                  <a:pt x="3600" y="0"/>
                </a:moveTo>
                <a:arcTo wR="3600" hR="3600" stAng="16200000" swAng="-5400000"/>
                <a:lnTo>
                  <a:pt x="0" y="44992"/>
                </a:lnTo>
                <a:arcTo wR="3600" hR="3600" stAng="10800000" swAng="-5400000"/>
                <a:lnTo>
                  <a:pt x="18000" y="485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Выноска 1 (с границей) 7"/>
          <p:cNvSpPr/>
          <p:nvPr/>
        </p:nvSpPr>
        <p:spPr>
          <a:xfrm>
            <a:off x="7286760" y="2786040"/>
            <a:ext cx="1428480" cy="714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00" y="24500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tially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t is essential to restore a complete banking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34BFBECA-C179-489E-A978-392EB0E7AFAA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Прямоугольник 4"/>
          <p:cNvSpPr/>
          <p:nvPr/>
        </p:nvSpPr>
        <p:spPr>
          <a:xfrm>
            <a:off x="857160" y="142884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in thing here is to recover confidence between entiti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Выноска 1 (с границей) 5"/>
          <p:cNvSpPr/>
          <p:nvPr/>
        </p:nvSpPr>
        <p:spPr>
          <a:xfrm>
            <a:off x="6188040" y="1857240"/>
            <a:ext cx="150012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723" y="21495"/>
                </a:moveTo>
                <a:lnTo>
                  <a:pt x="-1800" y="8722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most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Выноска 1 (с границей) 8"/>
          <p:cNvSpPr/>
          <p:nvPr/>
        </p:nvSpPr>
        <p:spPr>
          <a:xfrm>
            <a:off x="6273720" y="5715000"/>
            <a:ext cx="1500120" cy="5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997" y="258"/>
                </a:moveTo>
                <a:lnTo>
                  <a:pt x="-1800" y="977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prstDash val="lgDashDot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ter 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 solved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Скругленный прямоугольник 10"/>
          <p:cNvSpPr/>
          <p:nvPr/>
        </p:nvSpPr>
        <p:spPr>
          <a:xfrm>
            <a:off x="2143080" y="3571920"/>
            <a:ext cx="5000760" cy="157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Скругленный прямоугольник 11"/>
          <p:cNvSpPr/>
          <p:nvPr/>
        </p:nvSpPr>
        <p:spPr>
          <a:xfrm>
            <a:off x="3746520" y="3429000"/>
            <a:ext cx="1785960" cy="3298680"/>
          </a:xfrm>
          <a:custGeom>
            <a:avLst/>
            <a:gdLst>
              <a:gd name="textAreaLeft" fmla="*/ 87120 w 1785960"/>
              <a:gd name="textAreaRight" fmla="*/ 1698840 w 1785960"/>
              <a:gd name="textAreaTop" fmla="*/ 87120 h 3298680"/>
              <a:gd name="textAreaBottom" fmla="*/ 3211560 h 3298680"/>
            </a:gdLst>
            <a:ahLst/>
            <a:rect l="textAreaLeft" t="textAreaTop" r="textAreaRight" b="textAreaBottom"/>
            <a:pathLst>
              <a:path w="21600" h="39892">
                <a:moveTo>
                  <a:pt x="3600" y="0"/>
                </a:moveTo>
                <a:arcTo wR="3600" hR="3600" stAng="16200000" swAng="-5400000"/>
                <a:lnTo>
                  <a:pt x="0" y="36292"/>
                </a:lnTo>
                <a:arcTo wR="3600" hR="3600" stAng="10800000" swAng="-5400000"/>
                <a:lnTo>
                  <a:pt x="18000" y="398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uaranties are the main way to reduce th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trust at the mark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26" name="Содержимое 8"/>
          <p:cNvGraphicFramePr/>
          <p:nvPr/>
        </p:nvGraphicFramePr>
        <p:xfrm>
          <a:off x="428760" y="2214720"/>
          <a:ext cx="835812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7" name="Содержимое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214720"/>
                    <a:ext cx="83581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A993CB1-A216-47F6-99D1-D4903798C645}" type="slidenum">
              <a:rPr b="0" lang="ru-RU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Text Box 23"/>
          <p:cNvSpPr/>
          <p:nvPr/>
        </p:nvSpPr>
        <p:spPr>
          <a:xfrm>
            <a:off x="142920" y="6523200"/>
            <a:ext cx="310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Источник: Данные конференции ФБК</a:t>
            </a: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Прямоугольник 6"/>
          <p:cNvSpPr/>
          <p:nvPr/>
        </p:nvSpPr>
        <p:spPr>
          <a:xfrm>
            <a:off x="1428840" y="1500120"/>
            <a:ext cx="714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 developed economies a substantial part of governmental assistance are the guaran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Григорян</cp:lastModifiedBy>
  <dcterms:modified xsi:type="dcterms:W3CDTF">2008-11-27T18:04:02Z</dcterms:modified>
  <cp:revision>498</cp:revision>
  <dc:subject/>
  <dc:title>Расширение кредитования – важнейший фактор экономического роста России </dc:title>
</cp:coreProperties>
</file>